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BD10-B816-4F3C-AEFD-82FCDC800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200-D26B-43F0-959D-CA2DD3068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AE0-637B-4DB0-B6A8-C7C8190370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DA7F-D1AE-4E80-B034-1A602856A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253-55AC-4D43-B841-3B74C25F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4BF-E01D-4814-89D5-7A23110B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15F-4B52-4687-B2B4-B45D0B26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FFE0-01BC-48E2-9E6F-F5B8F9A2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870-43AC-4074-9D93-75BA66B9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472-C63A-4AAF-9EBF-649B52C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5B2-6E80-42E6-A168-A2BBBF2D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273-A3A5-4621-9786-B165C805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CE8-E120-43D6-B427-F9832D0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B7A-1B2D-4576-B18B-0E11B6C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2515-8604-447C-ABAD-344A51AB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8C1-8C9A-4043-9901-1F9E104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1C29-0447-4D21-910A-0CFA4EB5C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ccook125@aol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TI Rub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hn E McCook, Ed.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jmccook125@aol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65-693-588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gin the appropriate forms to take student to the S-Team to vet movement to Tier 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ok at 2 additional data points such as state testing, work product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bove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working with student in the classr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to the S-Team for input and further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 for Tie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Student is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on universal screening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Growth rate is less than average(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s a beginning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 to Tier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Student achieves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 or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it Ti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Some progress but above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Tier 2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cision Point for Tier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is at or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on universal screening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Growth rate is less than average(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s a beginning poi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ed to Special Ed.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making progress but below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inue Tier 3 or Return to Ti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udent achieves 2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ercentile at grad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it T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1:23:23Z</dcterms:created>
  <dc:creator>John</dc:creator>
  <dc:description/>
  <dc:language>en-US</dc:language>
  <cp:lastModifiedBy>John</cp:lastModifiedBy>
  <dcterms:modified xsi:type="dcterms:W3CDTF">2010-05-26T13:48:00Z</dcterms:modified>
  <cp:revision>2</cp:revision>
  <dc:subject/>
  <dc:title>RTI Rubrics</dc:title>
</cp:coreProperties>
</file>